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814-69E5-4DD8-AAA0-BBFB60CB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2A3-3F75-4235-A9A4-C561A78E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2DE-AD29-4869-8A69-C7061BBA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D80-FC1A-4F0D-9987-2E99E7AD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FF6-C600-4CD6-9D23-E7CA3FDD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CEF-DAAD-4ABB-82B4-EDA58DD7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B72-0062-41EF-8CE2-3328AFD5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31C-EB45-4490-8B9D-AFB8B71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48C-3899-4DE6-A3DC-03DA2EFD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38C-5B6F-4985-91FA-D3FD7EE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A13-431F-4BA4-8657-85AEB54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085-0855-4B8C-98CD-82B3220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2B1-EA60-46BA-9C83-F8A338AD53B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26.20101020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0-20T02:31:43Z</dcterms:modified>
  <cp:revision>113</cp:revision>
  <dc:subject/>
  <dc:title>投影片 1</dc:title>
</cp:coreProperties>
</file>